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45B1-4CFC-470A-865B-CB18AEDB2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995C-12BE-4F58-B9F1-B8E83C25D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9CFE-5487-4FB8-98E6-AD1083519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2463-0D83-453F-A1B1-39F3A6855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A59B-B8CA-47FD-856F-5D9F3F77F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BF2F-503D-4AAE-A29C-FF8C172DA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F713-B183-4317-B91E-EFE857ACA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CBBA-50FE-4794-9FA9-9B06196AD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A867-EC1B-4FD5-B2CA-B7CF77FBA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B9A8-26BE-4F70-A7EB-6131ABE96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B525-33D3-4576-BE61-8E6175C59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757E-57CB-4F96-9342-C96E8530D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2A89-EADD-4DC6-A66E-3DCB9B244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25AF-F77C-488B-B0B1-0A4D68B4A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B2F7-1F5D-4A21-A508-86CCC5255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7030-849A-4049-B20E-C44205A99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BE2A-054F-4617-A162-BA8861B41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A828-32A9-47E3-A820-FEE3B21FB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2BE2-196E-4DC1-9554-EB6441CA2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0BBC-BDED-4905-8A05-770EF9508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31D2-29E4-40F9-846C-405418F5B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5E4D-7922-4D18-8043-58AAF63BC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2FFC-49DA-402E-A43E-0A8A4F93E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C4E5-2B0E-45AD-9870-4B9E1CE0E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9A31-5B7C-4364-A6DD-16BC2BA6A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E326-04A1-408C-8784-9BB07772E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2FF9-F6F8-4E8B-B5F5-FBD48124D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F999-9B8F-4705-9A8C-40CEA6BEF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1CD1-10F1-4969-BB3B-DEFE6C13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59C-7228-4961-9C80-D6B13B7F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C5D-CD1D-491C-81A8-66DDDA8F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316E-6D39-4A87-AE0F-FD1D77E7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1FC1-748C-4B7B-8C6F-4AC4628B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DDA9-1B13-4E6C-9042-B3C677AF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2EC5-F3D7-448F-8884-C61F5A7D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F4FC-15DF-44E9-8AC0-D92E5080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AF30-E105-49A3-9758-DAD5EFBA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C496-96C5-46C5-9A27-99EE96A6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76F0-FD2F-435F-B595-A54A7D15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55DF-DBB6-4A35-AD2A-7D17BD09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0E47-844D-49F5-AC65-4AD4AC0B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6312-C730-4A97-BB93-6641BD28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4FBF-98D8-484D-8642-2829D113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50C1-A7BD-42F6-A05E-93426ABB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2F16-3AAF-47E3-87E3-0B3422DF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4B82-380B-4302-87DE-55BA66ED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741-E3A7-46EC-AABD-8D57885B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B29A-14A6-430B-83E6-A9DEF7DB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42C8-2E95-45BC-8C3C-B2EEF9A3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6F8-564A-477C-AFCB-8D18C1D1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087-9387-4674-BD16-E406902F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88F-E899-4ABF-A7B0-419B1DF8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FC77-74CB-4A46-88B2-E474B755A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8007-73D3-4241-952F-6B2FF5391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urriculum Map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3327480"/>
            <a:ext cx="603252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1447920"/>
            <a:ext cx="8610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MS Reference Sans Serif"/>
              </a:rPr>
              <a:t>THE KEY IS TO SPEND LESS TIME ON INEFFICENT MEETINGS AND CLASSROOM TIME, AND PUT MORE ENERGY INTO TEACHING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ASK YOURSELF, AM I TEACHING REPETITIVE SUBJECT MATTER THAT HAS ALREADY BEEN COVERED AND THE STUDENTS ARE BURNED OUT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AM I SPENDING VALUABLE TIME ON A SUBJECT ASSUMING THAT A STUDENT HAS ALREADY BEEN TAUGHT A CONCEPT</a:t>
            </a: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UNAWARE THAT THERE IS A GAP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DO I MAKE ACCUSATIONS ABOUT WHY “JOHNNY CAN’T READ.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52280" y="914400"/>
            <a:ext cx="8855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MS Reference Sans Serif"/>
              </a:rPr>
              <a:t>“</a:t>
            </a:r>
            <a:r>
              <a:rPr b="1" lang="en-US" sz="2800" spc="-1" strike="noStrike">
                <a:solidFill>
                  <a:srgbClr val="703dff"/>
                </a:solidFill>
                <a:latin typeface="MS Reference Sans Serif"/>
              </a:rPr>
              <a:t>WHEN INFORMATION IS ON THE TABLE O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MS Reference Sans Serif"/>
              </a:rPr>
              <a:t>THE COMPUTER, PEOPLE TEND TO ATTACK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MS Reference Sans Serif"/>
              </a:rPr>
              <a:t>THE PROBLEM.  WHEN THERE ISN’T GOOD INFORMATION, THEY TEND TO ATTACK EACH OTHER.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MS Reference Sans Serif"/>
              </a:rPr>
              <a:t>	</a:t>
            </a:r>
            <a:r>
              <a:rPr b="1" lang="en-US" sz="2800" spc="-1" strike="noStrike">
                <a:solidFill>
                  <a:srgbClr val="703dff"/>
                </a:solidFill>
                <a:latin typeface="MS Reference Sans Serif"/>
              </a:rPr>
              <a:t>	</a:t>
            </a:r>
            <a:r>
              <a:rPr b="1" lang="en-US" sz="2800" spc="-1" strike="noStrike">
                <a:solidFill>
                  <a:srgbClr val="703dff"/>
                </a:solidFill>
                <a:latin typeface="MS Reference Sans Serif"/>
              </a:rPr>
              <a:t>--DR. HEIDI HAYES JACOB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CURRICULUM MAPPING REQUIRES A  STAFF TO BE ABLE TO COMMUNICATE TO PROVIDE CONSISTENCY IN THE EDUCATIONAL PROGR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380880" y="91440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703dff"/>
                  </a:solidFill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PARING FOR CURRICULUM MAPPING</a:t>
            </a:r>
            <a:endParaRPr b="0" lang="en-US" sz="3200" spc="1" strike="noStrike">
              <a:ln cap="sq" w="12600">
                <a:solidFill>
                  <a:srgbClr val="703dff"/>
                </a:solidFill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12760" y="2190600"/>
            <a:ext cx="870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HAVE A SMALL LEADERSHIP TEAM OF TEACHERS AND AT LEAST ONE ADMINISTRAT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ADVANCE SCOUTING WOR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INITIAL RESEARCH AND DEVELOP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VISIT OTHER SCHOOLS, CONFERENCES AND READ THE LITERAT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CONT’D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04920" y="1219320"/>
            <a:ext cx="8626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LOOK A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READINESS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CONSID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EFFECTIVE WAY TO INTRODUCE MAPP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FACULTY PERCEPTION OF KID’S NEED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3" descr="pe01561_"/>
          <p:cNvPicPr/>
          <p:nvPr/>
        </p:nvPicPr>
        <p:blipFill>
          <a:blip r:embed="rId1"/>
          <a:stretch/>
        </p:blipFill>
        <p:spPr>
          <a:xfrm>
            <a:off x="4648320" y="380880"/>
            <a:ext cx="41148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380880" y="685800"/>
            <a:ext cx="7543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703dff"/>
                  </a:solidFill>
                  <a:miter/>
                </a:ln>
                <a:solidFill>
                  <a:srgbClr val="703d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HY CURRICULUM MAPPING?</a:t>
            </a:r>
            <a:endParaRPr b="0" i="1" lang="en-US" sz="1800" spc="1" strike="noStrike">
              <a:ln cap="sq" w="9360">
                <a:solidFill>
                  <a:srgbClr val="703dff"/>
                </a:solidFill>
                <a:miter/>
              </a:ln>
              <a:solidFill>
                <a:srgbClr val="703d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04920" y="1752480"/>
            <a:ext cx="8321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ALIGNS CURRICULA TO STANDARDS AND ASSESSM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BUILDS STAFF CAPACITY AND PROFESSIONAL DEVELOP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DEVELOPS REALATIONSHIPS AND COMMUNICATION BETWEEN STAKEHOLD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USES RESOURCES EFFECTIVE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What is Possible with Curriculum Mapping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6705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the Teac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ve a workable timeline for planning the curriculum     that is flexible and can easily be revised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an how and when the curriculum will be taught without coping with bureaucratic timelin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aborate with other grade-level teachers i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anning and coordinating units of study and activiti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ps new teacher feel more confident knowing they    are in line with more experienced teachers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an with the media staff ensuring that materials are ready (or ordered) before han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ing maps helps teachers keep abreast of new knowledge, new books, ideas, technology, and breakthrough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s teachers the opportunity to reflect on what is being taught, the way they are teaching, and make adjustments to eliminate problem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ps reveal not only content repetitions but also skill repetition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viewing maps non-core classes can articulate with core curriculu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elops communication between teach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4240" y="-609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or Student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-38088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s moving through the grade levels build on previous year’s experien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lps students have a more meaningful educational experience because learning is plann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repetition of content and skill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which can be boring and turn students of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to learn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For Paren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90720" y="1371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s are aware of what their child is working on in school and ca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pare for the start of a new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n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p students study for cl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t more involved in sch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For School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3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e community, parent, and local interest in the schoo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sures that teachers cover required curriculu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lls what is really being taugh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s as a monitoring device to prove compliance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with federal, state, district and school standard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rriculum maps can help in budgeting 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planning the school yea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e test scor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914400" y="609480"/>
            <a:ext cx="32767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IS 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URRICULUM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APPING?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523880" y="3048120"/>
            <a:ext cx="809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TOOL FOR COLLECTING A DATABAS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WHAT IS ACTUALLY BEING TAUGHT I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ROO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 ENTER ON A MAP THE KE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, SKILLS, AND ASSESSMENT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THEY ARE TARGET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S TIME ACTUALLY SPENT TEACHING A PARTICULAR SUBJE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pe01561_"/>
          <p:cNvPicPr/>
          <p:nvPr/>
        </p:nvPicPr>
        <p:blipFill>
          <a:blip r:embed="rId1"/>
          <a:stretch/>
        </p:blipFill>
        <p:spPr>
          <a:xfrm>
            <a:off x="4343400" y="0"/>
            <a:ext cx="43434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or the Distric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143000" y="2362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sters smoother transitions for students as they move through schoo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s for a consistent district wide curriculum for all  grades, promoting equality between schoo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What are the benefits of Curriculum Mapping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ignment of curriculum to standards and assess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inuity of instru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 on task orien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inuous improvement cyc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ship and consensus buil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ctations are cle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u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laborative sharing and adaptations for instructional effectiven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-5338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Thematic Curriculu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ed around a central concept, idea, or top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orporate interdisciplinary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tilize a variety of learning strategies and resour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tilize technolog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ve from general to more specific as concepts and skills are mastered by the stud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The Value of Thematic Curriculu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xtualized learning experi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s to the workpl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exibility:  Implementation can be accomplished through courses, teams, grades or entire scho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-depth exposure to broader fields of inter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acher collaboration in planning for interdisciplinary teach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53352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Value continued.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roved school climate through consensus building and shar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ning focuses on industry or fields within the workplace and places an emphasis on problem-solving, communications, math, science, and behavioral sci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rlying premise is to develop skills that equate a school-to-work philosoph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228960" y="-5338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The Bottom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achers work collaboratively to produce meaningful units of study that develop interest, thinking skills, and allow for multiple learning styles within the classroo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aningful activities result in outcomes with practical applications to the real world and do not stop at the classroom do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even Phases of Curriculum Mapp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ct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Read-throug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xed-Group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 Group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points that can be revised immediate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points requiring long-term resear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view cyc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15" descr="j0335112"/>
          <p:cNvPicPr/>
          <p:nvPr/>
        </p:nvPicPr>
        <p:blipFill>
          <a:blip r:embed="rId1"/>
          <a:stretch/>
        </p:blipFill>
        <p:spPr>
          <a:xfrm>
            <a:off x="990720" y="22096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75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75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457200" y="1066680"/>
            <a:ext cx="7620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URRICULUM MAPPING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4" name="Picture 3" descr="bd06663_"/>
          <p:cNvPicPr/>
          <p:nvPr/>
        </p:nvPicPr>
        <p:blipFill>
          <a:blip r:embed="rId1"/>
          <a:stretch/>
        </p:blipFill>
        <p:spPr>
          <a:xfrm>
            <a:off x="2819520" y="2133720"/>
            <a:ext cx="3124080" cy="2286000"/>
          </a:xfrm>
          <a:prstGeom prst="rect">
            <a:avLst/>
          </a:prstGeom>
          <a:ln w="0">
            <a:noFill/>
          </a:ln>
        </p:spPr>
      </p:pic>
      <p:sp>
        <p:nvSpPr>
          <p:cNvPr id="165" name="WordArt 4"/>
          <p:cNvSpPr txBox="1"/>
          <p:nvPr/>
        </p:nvSpPr>
        <p:spPr>
          <a:xfrm>
            <a:off x="533520" y="4800600"/>
            <a:ext cx="7924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EADING IN THE RIGHT DIREC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228600" y="685800"/>
            <a:ext cx="7620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703dff"/>
                  </a:solidFill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Y IS MAPPING IMPORTANT?</a:t>
            </a:r>
            <a:endParaRPr b="0" lang="en-US" sz="1800" spc="1" strike="noStrike">
              <a:ln w="12600">
                <a:solidFill>
                  <a:srgbClr val="703dff"/>
                </a:solidFill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2209680"/>
            <a:ext cx="8610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MAPS INVITE ALL STAKEHOLDERS WHO DEAL WITH CURRICULUM CONCERNS TO ENTER INTO CURRICULUM ANALYSIS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MAPS ARE A FRAMEWORK FOR CURRICULUM DECISION MAKING AND A SPRINGBOARD FOR QUESTIONS ABOUT THE NATURE OF THE PURPOSES OF SCHOOL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BY RAISING QUESTIONS, WE ENGAGE IN IDEAS AND NOT JUST PRESENT TH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0" y="304920"/>
            <a:ext cx="85345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dff"/>
                </a:solidFill>
                <a:latin typeface="MS Reference Sans Serif"/>
              </a:rPr>
              <a:t>THE PURPOSE OF MAPPING ISN’T JUST TO HAVE THIS INFORMATION, BUT TO USE IT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TECHNOLOGY HAS MADE IT POSSIBLE TO </a:t>
            </a: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ALTER, REVISE,</a:t>
            </a: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SHARE</a:t>
            </a: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 INFORMATION </a:t>
            </a: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WITHIN</a:t>
            </a: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BETWEEN</a:t>
            </a: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 SCHOOL SIT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MAPPING PRESENTS A CRITICAL OPPORTUNITY FOR TEACHERS TO MAKE ADJUSTMENTS IN THEIR TEACHING BASED ON THE </a:t>
            </a: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PERFORMANCE LEVEL OF STUDENTS</a:t>
            </a: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IT DEALS WITH BOTH </a:t>
            </a: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VERTICAL AND HORIZONTAL</a:t>
            </a: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 OPPORTUNITIES FOR TEACHERS TO COLLECTIVELY TAKE A LOOK AT THE OPERATIONAL DAT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THE MAPPING DATABASE ACTUALLY BECOMES A DATABASE FOR AUTHENTIC </a:t>
            </a: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EXAMINATION OF A CHILD’S EXPERIE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K-1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89080" y="914400"/>
            <a:ext cx="8854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Reference Sans Serif"/>
              </a:rPr>
              <a:t>CURRICULUM MAPPING IS IMPORTANT SO THAT TEACHERS HAVE A BETTER IDEA OF WHAT’S GO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Reference Sans Serif"/>
              </a:rPr>
              <a:t>ON IN THEIR OWN CLASSROOMS AS WELL AS THEIR COLLEAGUES’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BY BEING ABLE TO SEE WHERE THEIR CURRENT STUDENTS WILL BE HEADED AND WHERE THEIR POTENTIAL STUDENTS ARE COMING FROM, THE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WILL BE ABLE TO DEVELOP A CURRICULUM MOST APPLICABLE</a:t>
            </a:r>
            <a:r>
              <a:rPr b="0" lang="en-US" sz="2400" spc="-1" strike="noStrike">
                <a:solidFill>
                  <a:srgbClr val="000000"/>
                </a:solidFill>
                <a:latin typeface="MS Reference Sans Serif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AND EFFECTIVE FOR</a:t>
            </a:r>
            <a:r>
              <a:rPr b="0" lang="en-US" sz="2400" spc="-1" strike="noStrike">
                <a:solidFill>
                  <a:srgbClr val="000000"/>
                </a:solidFill>
                <a:latin typeface="MS Reference Sans Serif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THEIR STUDENTS</a:t>
            </a:r>
            <a:r>
              <a:rPr b="0" lang="en-US" sz="2400" spc="-1" strike="noStrike">
                <a:solidFill>
                  <a:srgbClr val="000000"/>
                </a:solidFill>
                <a:latin typeface="MS Reference Sans Serif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Reference Sans Serif"/>
              </a:rPr>
              <a:t>THIS WILL PROVIDE A MORE UNIFORM AND FLUID EDUCATIONAL EXPERI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990720" y="83808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"IT TAKES A VILLAGE.....”</a:t>
            </a:r>
            <a:endParaRPr b="0" lang="en-US" sz="32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1" name="Picture 3" descr="pe03254_"/>
          <p:cNvPicPr/>
          <p:nvPr/>
        </p:nvPicPr>
        <p:blipFill>
          <a:blip r:embed="rId1"/>
          <a:stretch/>
        </p:blipFill>
        <p:spPr>
          <a:xfrm>
            <a:off x="3429000" y="1981080"/>
            <a:ext cx="2133720" cy="12956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365040" y="33606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80880" y="342900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ONE OF THE BIGGEST PROBLEMS IN AMERICAN EDUCATION TODAY IS AN EXTRAORDINARY ISOLATION OF CLASSROOM TEACHERS.  </a:t>
            </a: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THEY DON’T KNOW WHAT IS GOING ON IN EACH OTHER’S CLASSROOM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609480" y="1123920"/>
            <a:ext cx="8610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CURRICULUM MAPPING ISN’T ABOUT 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SINGLE CLASSROO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IT IS ABOUT A CLUSTER OF CLASSROOM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THAT TEACH THE SAME STUD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ALL TEACHERS ARE INTERCONNECTED</a:t>
            </a: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IF YOU ARE A MATH TEACHER, YOU ARE A WRITING TEACHER.  IF YOU ARE A SCIENCE TEACHER, YOU ARE A READING TEACH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026"/>
          <p:cNvSpPr/>
          <p:nvPr/>
        </p:nvSpPr>
        <p:spPr>
          <a:xfrm>
            <a:off x="0" y="533520"/>
            <a:ext cx="855036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 JUST DON’T HAVE TIME FOR THIS!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THE FIRST YEAR OF MAPPING IS LABOR-INTENSIV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BREAK DOWN THE PROCESS AND PROCEED GRADUALLY, BUT STEAD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IT MAY TAKE A YEAR OR TWO BEFORE ONE CAN REALLY GET A SCHOOL MOVING IN THE AREA OF CURRICULUM MAPP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13:20:38Z</dcterms:created>
  <dc:creator>WINSTON SALEM FORSYTH COUNTY</dc:creator>
  <dc:description/>
  <dc:language>en-US</dc:language>
  <cp:lastModifiedBy>User</cp:lastModifiedBy>
  <cp:lastPrinted>2003-06-13T14:46:53Z</cp:lastPrinted>
  <dcterms:modified xsi:type="dcterms:W3CDTF">2012-08-22T18:17:24Z</dcterms:modified>
  <cp:revision>11</cp:revision>
  <dc:subject/>
  <dc:title>Staff Development Summer 2003</dc:title>
</cp:coreProperties>
</file>